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0CB0-7CC8-4577-A7D3-605C35016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0C45-A42D-44DA-9983-D145053C1694}" type="slidenum"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8F19-A9A2-4CE5-8C32-A01B8466431C}" type="slidenum"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2C1-4FDF-4ED6-AF87-3543980A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D19-FC8D-4B6C-9F46-66F62257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AF9-1E20-44CB-B427-5DF66DDC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A23-3BB6-45E0-B43C-1CCD2CD0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E2C6-BF51-4A95-9D67-0C584635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C34A-08A6-47CF-A2FF-516EBECD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B9A6-5EDA-4D98-A3F5-06802481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8463-F148-4EF7-84EF-1B0F9A06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DEDA-A440-4DD9-8510-ADF5F13F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F649-FEEE-47F0-B83A-7CCC25B0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0A48-3600-480F-AC6E-7FEFCBE5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83E-2676-4AE8-A4F7-30CE50E6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1E09-C47C-4975-9962-10549F31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4708-C8C2-490C-894C-81C412AD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8FFA-D085-4A29-AF70-EC8E08F5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599B-0F4A-4185-BC22-3AF6B53F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2D72-C42D-48A6-A0BB-D9BB6E63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B2A1-1D9F-4562-9072-1A0A0147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2FD4-DA5E-4A91-AA39-CDE25CBF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5D2C-B012-4625-88DD-5524FA9C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2C13-7B6A-47EE-837D-D50618C7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391B-51EF-4A2C-B8A2-C7CCD449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099-88DC-4550-9105-D927BF3B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10DA-6A1F-4792-B3EA-C0FA2D7D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B029-C8E3-4C83-8585-7FB4C3CF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50963-9453-42C4-BD2E-C80AD58A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6AEAA-8BAD-46AE-9B5E-9771B4E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7E30-BB43-460E-B806-D900B6E8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C416-AB6C-4745-97C4-6A85BAC3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5B52-C068-49AE-9CFC-15434F59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CB319-43A9-4505-BD0E-2EBA0785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5B0D4-9F86-4668-BF20-4D6D5826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EBF2-B5F6-4EBB-B7B2-1F7EB285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DC9-EF9B-4CA4-945A-A5FAAB24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E7918-192F-48A0-A38F-F571041C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94469-CDBD-4185-8E53-7A5983A1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2D26-2AE4-4839-9756-ABC88C67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9D868-05D9-4814-A829-D1551D66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14F5-3BF7-4D75-A4EB-2E5D0EB7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5CC7-1ACA-46F8-AA96-851D785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D03BE-2832-4B57-BF05-A24359C2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4C74C-A509-447A-B1A1-B1D2648C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C3C6-047A-430B-9E71-626A96A0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B06-F69F-4C8C-80AC-79B2FF92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A8F-CB1F-4D4C-89CD-B6295FB6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1FB-13F1-46B0-B792-AE88F47E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9BB-9B2C-4A72-B7F9-F8F99D24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307-78E4-4795-BC80-623AD34D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B5AF-AF03-403A-BE82-680E51B9724C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4307-5C24-4DBD-B56A-1F8339D65E34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F727-79AB-4C6A-BD58-36AF3A2700C8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DCD4-DB6C-4D06-AA12-231FC54E4F5F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eb3d9f"/>
                </a:solidFill>
                <a:latin typeface="Trebuchet MS"/>
                <a:ea typeface="Trebuchet MS"/>
              </a:rPr>
              <a:t>4.3 2</a:t>
            </a:r>
            <a:r>
              <a:rPr b="0" lang="en-US" sz="5400" spc="-1" strike="noStrike" baseline="30000">
                <a:solidFill>
                  <a:srgbClr val="eb3d9f"/>
                </a:solidFill>
                <a:latin typeface="Trebuchet MS"/>
                <a:ea typeface="Trebuchet MS"/>
              </a:rPr>
              <a:t>nd</a:t>
            </a:r>
            <a:r>
              <a:rPr b="0" lang="en-US" sz="5400" spc="-1" strike="noStrike">
                <a:solidFill>
                  <a:srgbClr val="eb3d9f"/>
                </a:solidFill>
                <a:latin typeface="Trebuchet MS"/>
                <a:ea typeface="Trebuchet MS"/>
              </a:rPr>
              <a:t> year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6642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scríbelo- review ga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ocab, affirmative/negative words, gustar, and stem chan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waiter serves chicken and ric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 mesero sirve pollo y arroz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lass repeats the new vocabulary after Sra. Prin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a clase repite el vocabulario nuevo después de la Sra. Prin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y friends always compete when we play gam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s amigos siempre compiten cuando (nosotros) jugamos los juego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serve sweet tea in the morning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Sirves (tú) el té dulce por la mañana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one wants to ask for the chec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die quiere pedir la cuen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can follow the instructions for the tes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odemos seguir las instrucciones para el exa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co and you (sing/fam) (in Spain) never order dessert. What a shame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co y tú nunca pedís el postre. ¡Qué lástima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713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re the affirmative words in Spanish?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ive yourself 2 extra points if you had each form of some. </a:t>
            </a:r>
            <a:r>
              <a:rPr b="0" lang="en-US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33560" y="2971800"/>
          <a:ext cx="1481040" cy="2057400"/>
        </p:xfrm>
        <a:graphic>
          <a:graphicData uri="http://schemas.openxmlformats.org/drawingml/2006/table">
            <a:tbl>
              <a:tblPr/>
              <a:tblGrid>
                <a:gridCol w="148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omething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one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ways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so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738520" y="2971800"/>
          <a:ext cx="4189320" cy="2057400"/>
        </p:xfrm>
        <a:graphic>
          <a:graphicData uri="http://schemas.openxmlformats.org/drawingml/2006/table">
            <a:tbl>
              <a:tblPr/>
              <a:tblGrid>
                <a:gridCol w="418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l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gu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guno/algún/alguna/aglunos/alg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mbié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713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re the negative words in Spanish?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62120" y="2971800"/>
          <a:ext cx="1785960" cy="205740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Nothing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one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e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ither,either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738520" y="2971800"/>
          <a:ext cx="4881600" cy="2057400"/>
        </p:xfrm>
        <a:graphic>
          <a:graphicData uri="http://schemas.openxmlformats.org/drawingml/2006/table">
            <a:tbl>
              <a:tblPr/>
              <a:tblGrid>
                <a:gridCol w="488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a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nguno/ningún/ninguna/ningunos/ning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un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mp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9840"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o you want to go to some restaurant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9840"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¿Quieres ir a algún restaurant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9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  <a:ea typeface="Trebuchet MS"/>
              </a:rPr>
              <a:t>Las regla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verybody gets a whiteboard/marker/eras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ra. puts up a ques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rite your answer fast- turn your board upside down/or cover it- marker down!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ay  uno/dos/tres etc. (talk softly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oever gets it correct first 2 p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verybody else 1p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he person who said uno isn’t correct- check dos etc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 can correctly identify and use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ffirmative/negative words</a:t>
            </a:r>
            <a:r>
              <a:rPr b="0" lang="en-US" sz="3200" spc="-1" strike="noStrike">
                <a:solidFill>
                  <a:srgbClr val="eb3d9f"/>
                </a:solidFill>
                <a:latin typeface="Trebuchet MS"/>
                <a:ea typeface="Trebuchet MS"/>
              </a:rPr>
              <a:t>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don’t want to eat any fruit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(Yo) no quiero comer ninguna frut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always order some desserts after dinn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Nosotros) siempre pedimos algunos postres después de la cen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re you going to drink some coffee for breakfas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Vas a beber/tomar algún café para el desayuno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 never drink any(none) coffee. I don’t like i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Yo) nunca bebo ninún café. No me gus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use the verb gustar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 don’t like coffee eith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 me gusta el café tampoco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6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1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1864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 can correctly identify and use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verb gusta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333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tricia and Carla like salad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tricia y Carla les gusta la ensalad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use the verb gustar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 like enchiladas with red sauc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e gustan las enchiladas con salsa roj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use the verb gustar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You don’t like meat because you are a vegetaria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 te gusta la carne porque eres vegetariano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use the verb gustar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y younger sister likes sweet ro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i hermana menor le gustan los panes dulc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use the verb gustar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 like to get good grades on the Spanish tes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s gusta sacar buenas notas en los examenes de español.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ómo se dice “the rice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Trebuchet MS"/>
              </a:rPr>
              <a:t>El arroz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 Cómo se dice “to eat breakfast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en-US" sz="6000" spc="-1" strike="noStrike">
                <a:solidFill>
                  <a:srgbClr val="404040"/>
                </a:solidFill>
                <a:latin typeface="Trebuchet MS"/>
              </a:rPr>
              <a:t>desayunar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ómo se dice “the soup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404040"/>
                </a:solidFill>
                <a:latin typeface="Trebuchet MS"/>
              </a:rPr>
              <a:t>La sopa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14040" y="23619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ómo se dice “the sugar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rebuchet MS"/>
              </a:rPr>
              <a:t>El azúcar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ómo se dice “To ask for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Trebuchet MS"/>
              </a:rPr>
              <a:t>pedir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ómo se dice “the spoon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Trebuchet MS"/>
              </a:rPr>
              <a:t>La cuchara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228564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uáles son las formas del verbo servir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122480" y="2819520"/>
          <a:ext cx="5867280" cy="25905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irv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13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vi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irv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13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ví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ir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13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irv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136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8:17:58Z</dcterms:created>
  <dc:creator>Coffman, Kristie</dc:creator>
  <dc:description/>
  <dc:language>en-US</dc:language>
  <cp:lastModifiedBy>Prine, Stephanie</cp:lastModifiedBy>
  <dcterms:modified xsi:type="dcterms:W3CDTF">2015-10-22T15:03:06Z</dcterms:modified>
  <cp:revision>42</cp:revision>
  <dc:subject/>
  <dc:title>6-2 2nd</dc:title>
</cp:coreProperties>
</file>